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588-30F0-43EC-A365-6D9F2F58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F7E-FB49-45AD-A711-F22A7C0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DCA-9552-4227-B606-537F47D7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5BE-6532-4F56-8861-47AC3D58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C127-2850-4314-9BEC-E26230AA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7B4E-79C4-43EA-8E04-8C26C71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588-E4C3-493F-9FB4-71C6E87D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B664-6FFD-49BC-AF9D-01A56EC1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217A-EFF4-471B-BDAA-9CF1CDE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2640-0AE7-4BED-9164-7D6ADC8C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DE8D-7B60-4F41-944E-1BCFE93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C8D-0F34-4F63-95A6-6D59D19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AB9A-5593-4AA3-A936-1D7FBD7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B1FF-4F88-4C6A-944E-C1C408FA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0AC6-5BEC-4F04-AC24-A13D6380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A59A-54A5-43F0-979D-169EE627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E00D-1E87-4183-A63B-6210C7B1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8C2-2D20-47EC-BD22-F86864D9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E16-2BB7-4EC8-A749-6C98B36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7AD-AC3C-4FD5-B49D-6418373C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10A-0DC4-42A3-B76D-6F081B4E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BB2-02D5-4401-918E-8AE825C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C26-20B2-4BE4-B79D-79478EA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B76-5425-41D9-AB80-5869DA20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BE5-1921-4D04-9BD9-D24A55D023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2243-D4C8-43DE-9A5E-775E416419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dbbd71"/>
                </a:solidFill>
                <a:latin typeface="Arial"/>
              </a:rPr>
              <a:t>BENJAMIN FRANKLI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LIFE AND INVENTIONS OF A GREAT M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1496880" cy="1841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209520" cy="43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914400" cy="112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YOUNG LIF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On January 17, 1706, in Boston,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osiah Franklin and Abiah Folger had their tenth son, Benjamin Frankl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 all Benjamin would have 9 brothers and 7 sis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Josiah wanted Benjamin to enter the clergy but could only afford for him to go to school for one ye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YOUNG LIFE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en he was young he loved to read which got him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pprenticed to his brother James who was a pri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fter Benjamin helped make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mphlets he would go and sell them out on the street at the age of 12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RUN TO FREEDOM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n 1723 Benjamin got repeated harassment from his brother after being let out of prison and he could not tak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e took a boat to New York trying to find a job as a printer but could 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e walked across New Jersey finally arriving i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hiladelphia via boat r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e found work as a printer and he did so well that the governor of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nnsylvania promised to set him up a business for himself if young Franklin would just go to London to buy fonts and printing equip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anklin did go to London, but the governor reneged on his promise and Benjamin was forced to spend several months in England doing print wor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06:bo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17:invents a pair of swim fins for his h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22:became a vegetaria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35:brother James 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39:house robb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45:father 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78:signs France alli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90:april 17 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THE NATIONAL MEMORIAL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Benjamin Franklin national memorial is located in the rotunda of the Franklin institute of science museum in Philadelphia, pennsyvania.inside the hall is a 20 foot high white marble statue which sits on a 92-ton pedestal of white serevezza mar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BIBLIOGRAHP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eaps of thanks 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n.wikiped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Ushistory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mages.google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BY LOG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28840" cy="1576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45964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353280" y="3137040"/>
            <a:ext cx="2790720" cy="3720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0" y="4365720"/>
            <a:ext cx="1687680" cy="249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484360" y="5702400"/>
            <a:ext cx="259740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78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358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9:56:53Z</dcterms:created>
  <dc:creator>dhs</dc:creator>
  <dc:description/>
  <dc:language>en-US</dc:language>
  <cp:lastModifiedBy>dhs</cp:lastModifiedBy>
  <dcterms:modified xsi:type="dcterms:W3CDTF">2009-11-03T20:51:10Z</dcterms:modified>
  <cp:revision>9</cp:revision>
  <dc:subject/>
  <dc:title>BENJAMIN FRANKLIN</dc:title>
</cp:coreProperties>
</file>